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6ABB-43E5-41F6-B9A9-2652B7383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FEB9-7391-4151-BED1-05F39AE6E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CC491-36F8-4A18-816B-D3C59A611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592778-5244-4816-82DE-385D43727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21A431-EA1C-48A2-831D-7765285967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CAE9F-786A-4480-8C49-ECEF55E27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E7613-9A62-458D-A373-6909E1F53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1B917-7E95-49EB-95D4-EF8333D14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A20A9-339D-40F4-9E7F-62A4F41211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66BF6A-65D2-4761-8A60-20332FCE98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9F0400-D1CD-43D3-93F1-5DD91DFBC5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6CC9BC-07B2-4F08-9ABE-6FDC2E696E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00F2D-22F5-4BCD-A138-BEAC9C570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FBC767-CCBB-49E6-872B-0268CF660E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261AE8-2745-4620-BDE8-4BD20A94A5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46158D-6E28-4C48-A9E0-B30C9BB008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AD90F4-9EBC-4DE9-AE45-4290B90716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76A4AD-B6EB-4F8A-848C-85F4D444CE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85BBD8-AECF-4AEB-B61F-097F900F4A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67A056-1C4A-4970-8537-22D66B884C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C4F69B-FF4C-4718-9D81-8CB557A98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C38F93-C030-42CD-B31F-AFB2BF37AD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32DEF7-4BB1-4316-95C1-F4DAF85F65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07549-7E6F-4029-BBAD-90D9F122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80EC7C-FD95-4E8A-B3D5-8138652543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1A99E9-4BCC-493A-BDA5-AF4D242D8E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FAD787-23FC-4B88-9AA7-DE88A556C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ED57FE-9772-4CA4-BA47-64129B6478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D7712F-BBDF-48DB-9C6A-6D9863189E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900B65-6E21-498C-883B-32C4517C94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5C5EEE-D53A-4A1E-B516-500C76A1C6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E18B17-E9F1-4B5A-A281-18EEA18EF4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6B75F6-30A9-4914-9F63-0F6AA7AB8A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AB6D6-B8FE-4328-B76A-3DFBE28CF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67E95-805A-486F-B749-7E83E12C0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491DAD-55C7-4B20-8D32-5668B6BEA9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ADB382-AB7C-432C-8539-71157DE4FD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A191DB-E17C-42A2-8CD7-D009F05E96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AD0CA6-F40F-4431-8DF8-7517816A7C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99EBFD-08BE-4DA1-AB67-0CFF3379C0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6B7C62-6C69-48DC-88D4-CC48B96AC4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34B81A-8E84-43C2-9C54-9F2CDD2700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209E6D-09CD-4CF9-BDDF-A9E59EA79A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8B47DA-03E8-4216-9502-49FF684E52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29E08F-9C5C-426A-9150-DD9D2B86ED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1D561-C60E-4871-BA3B-88B9BC7A3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F324DD-724B-495A-AF98-4C7DD4438D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FDFF55-EA44-4B39-8957-E5D62B5B0B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A8BF85-8780-482F-BB7B-8CAEF7DFCD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714CB2-51F4-49C5-96FA-732648CD4A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6FDBFB-F8D5-4764-9C8F-21E7F6C009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FB43B2-7412-43A3-8D08-24723D8BF0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0590D3-D280-4B97-A17B-6A0BAD2C44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1DC638-8C02-4433-89F5-19FBD00578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1B893C-F4D2-492B-89F4-9D5F716BBF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F9AABF-12E6-49DA-A79F-48432A9F8D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42FDC-CDDE-4338-B0FE-206FF02B7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DBD2D3-4438-40E1-9352-EF599EF636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6040F5-4C48-423E-8245-7867657E97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ED1CFC-0CBC-4511-8CE6-0E576DAA6B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A71316-1A28-48DF-B835-2D7CE5161B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70B0EC-5131-456A-ABCD-993B13871A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D00148-E5F4-457B-A468-9AFD1AF9F5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2220BC-B08A-41DF-9C7E-CEA7D12FD6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CF2030-933C-476D-ABBA-82C63637C3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EB8405-860C-4F8B-BAE2-3780FED7C2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02675E-802A-4369-B048-B245FD875C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714EA-2327-4234-8B33-8C0BC7586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74A16D-9B78-4138-9622-F7051F1238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4024DB-7E8B-4DA5-9AB1-507F17B6DD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52D111-857B-46D8-9457-B367F72114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901BD8-EF71-44BB-ACFC-B0C461778F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0EA57D-A6AD-419A-88BC-C25AB92CAA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A0D5BF-3FE3-4C84-859B-C42D7670ED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9EFF5E-255B-49CA-AB35-1E87B65609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544D97B-7A36-4B1E-9FAD-309FF925A0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7BFF5A-14F5-4F9F-BDCB-F0DFF76E90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FFCE7FC-2138-44FE-A7AE-1197C39F24D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CDFE1-B811-4F57-AF50-9E1D05757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050942-E148-4652-A5C5-6259654CFC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9FC896-49AF-44BE-B374-71755A5ACA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668F34-6263-471E-BF4A-12E2C340F2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3F1ADF-4CF0-4A34-96ED-ADAFFD43C5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13D8A2-B1AB-4D21-B1B3-57CB5ECD64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CE5809-96C6-42F8-BC86-114C9A7B11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B68309-B86C-4E12-ABC8-E97A5FDC4C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23BEA8-8E7B-4375-B99D-1BB7A87818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F25D41-1245-4469-A121-11D3CF2FCB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E95D9B-01AB-4EB9-A00C-80B8D63023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C5A3C-5FC4-4F8C-935A-1AB51B1D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56FD81-E137-430F-9C60-CC28FCE778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FFEA-AE78-4F13-88C8-45BD20F8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AA7A6-B1C4-4088-B618-3D3D0FA5A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FD00-ABDF-4DBC-869A-A973168EB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6AE7D-5A02-4487-AD3E-75F3795EC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06057-9D9D-4CAA-A968-5CC741A3B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A5A4F-6342-43A5-AAB2-0F67BFE2F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6B05C-0FF5-4C8F-B4DC-F9719C884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21EE1-5B1A-45FE-9B46-D5307BAFE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A23C1-BABD-4738-9335-506FAAAEF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155FA-1E4E-463F-A840-F16CA5D55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30F38-CC64-48A3-87EC-85A10A6C3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030C5-A59D-4B85-9F5B-4B9C1B76B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8CDB-F1F1-4B87-AF3C-91C75F3C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C4A9C-A065-4433-BB87-56F3337CE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9D26E-8629-469C-B1E6-0ECAAE445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0D63B-BDD3-4D76-9361-139D3345B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25F9A-D2A7-47D1-9654-9181C10DB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46858-E502-46DA-8602-3BBB875CC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4D45BD-0C2F-4A38-A1C3-1C79EDA2A4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9D014A-D54A-43B6-A718-10A610D2B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8B064-8BE6-4E48-8418-384295F109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AA226-AB84-4B5D-927D-6BC45B4C6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0AA48-9991-4045-B784-DBF99877F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3753-0536-4673-BD54-88E28010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B3EA6-7EBA-451E-9266-35298311A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89B37-7EF5-4491-8581-19C48B6CD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91C33-2749-4C0C-9526-358556F2E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A0E50-2181-47B5-9892-424E03609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1E988-62E9-46E1-990F-476F88683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85C50-2E9D-4349-A4F6-8D6647FAE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5E7A9-64A2-4848-AF06-DCDE65A2C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911D6-E610-42D9-828D-8FB9A6F1B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C21CDD-AFA7-4FBB-B99B-AB05F2CAAF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E23F83-4A80-455D-93F6-06A5DFAF2C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9397-B972-449C-9E18-6EB235B8C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42CC1-2AE5-4E4F-9C8F-80BB7B1A7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2A6148-FB98-4038-9295-247A7E9BF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D7CDF-6915-4294-A5A3-42C821DA6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A4971-A440-4B4C-8B1B-3076FDE01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96F2B-9ED9-4A37-8759-81E59CFB4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F53AC-8F85-477F-B266-203A4D1D1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DED767-1C4C-46C4-AF0F-29B0DC854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1540E-8F5A-4EE7-8A79-241334FC1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4F951-6748-4EBA-9C92-F0613FB7A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76987D-DFA8-4075-864C-EE78E73C70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36399-A1F0-4D64-BCAD-FEB917F6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E4AEE3-1CC8-4FAF-A7B4-8B8CD2B702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40177B-A365-48B8-94C2-ADD94F8C5D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DDED9-CF7F-4EA9-8EB4-6239731A95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148ED-4C59-4351-B7DB-D0C3C1A4E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90834-8D12-473D-8086-9E98F63F0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6470A-796A-4502-8E61-4C0BB6D6B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9CEC7-6155-40CC-AB18-8D388A6CF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BCBC6-E942-445B-BBF4-654FD5778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CF774-60B3-4545-8B1F-ED4FE59E7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E9359-BC07-4AE5-8EC1-22D2C4C51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36E4-2F3B-4BBE-8A6F-2A565F51D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EF120-07DC-46D8-937F-0D1CA81E1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B3F83C-4223-4E6D-94D0-D1155614B0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5E7DEE-9D29-4A03-9442-4CAA272FB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4EE232-62EF-4543-8F0B-9745B1ADDF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152AE-B305-420B-AD8B-C34099C7A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B87178-5CE6-4700-BD74-DF97FC3BC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D473E-F218-4294-84C9-AF79F1666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C89AE-A577-465F-90AF-AD8417A29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01532-CAFE-4792-A24E-163B0EF5B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41900-24E2-4FD4-B9A1-E847C8555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B5CF-C5ED-4EE3-BFBA-301521C4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F4047-E5AC-444F-B3DE-EF96724D1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35AE3-BBF7-4F71-854F-1A7E86C5B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E89F7C-F29B-4E8B-96A8-83896503F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6CCD96-72B3-482B-82AD-CEC8B4186F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EBC43-F40A-4492-BF2D-A5169E476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1FDC12-C696-4878-ACD3-B2D4EC1ED1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ABBFF-CFEE-49D9-81D4-BD51FF2E8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70328-3153-4F8B-A710-7D810A1E25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A49D0-DF5E-4449-BCB2-4F2F40550C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39933-8FAF-4B0D-9207-06F7BEADA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594C-1FAF-47D8-BD89-2E337A9C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EC57B-8E11-4985-9D70-6CC7E7BC6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ADC33-E8BF-4ADB-A7D7-DC8B07F70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3E87B-FDF1-4253-91FC-DD3137DE3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B0096-7153-4D39-898E-A27FAEC93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DED3C2-3231-4716-BA2B-D1BD14760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9E3D8C-8481-438C-BD4E-3531B4567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336509-C801-4C2B-9958-E48C120D67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D766DB-06A1-4211-BACC-1F11F8DB4F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5FC172-838B-422A-890A-98C3429D9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9DD9C6-70BA-4BAA-896E-5DE9C6D783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1B7A-EAC6-4275-9E4B-C214790A3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4"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B5E1-8A8E-4059-A6A0-1AF6EEF5129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5"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16"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6948-0E24-4563-9F07-EDEB629FE5A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6"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7"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9AF7-0DD5-43F9-968E-1D3497A828F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7"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8"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D93C-EB4A-40AC-A0A3-42E2DCF1620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8"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39"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E121-09FD-44FA-B0BB-D3B3060C1C5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9" name="PlaceHolder 3"/>
          <p:cNvSpPr>
            <a:spLocks noGrp="1"/>
          </p:cNvSpPr>
          <p:nvPr>
            <p:ph type="dt" idx="4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0" name="PlaceHolder 4"/>
          <p:cNvSpPr>
            <a:spLocks noGrp="1"/>
          </p:cNvSpPr>
          <p:nvPr>
            <p:ph type="ftr" idx="4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1" name="PlaceHolder 5"/>
          <p:cNvSpPr>
            <a:spLocks noGrp="1"/>
          </p:cNvSpPr>
          <p:nvPr>
            <p:ph type="sldNum" idx="4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B546-C179-4FCA-91AE-1C8FAEAF55B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A0BD-F6C5-40E9-8066-CFA01C6FC0BC}" type="slidenum">
              <a:rPr b="0" lang="en-US"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07F5-D0E7-4E3A-B983-BCE3972F2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8"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9"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6233-7F8A-46DF-BCCF-812A154BB21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9"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0"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F3E7-25F6-4CCB-BA8D-DC36B5C5CA0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0"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11"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4400-CC3D-46FB-8A11-CDD93B75949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1"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52"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5FD7-C0E8-40A2-A23C-708DA535F46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2"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93"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5C0D-BF84-4469-82F7-1BE5FA5BB7A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3"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34"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F7EB-172C-4CEC-97D1-84DDE28BE5E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tilityproject.org/" TargetMode="External"/><Relationship Id="rId2" Type="http://schemas.openxmlformats.org/officeDocument/2006/relationships/image" Target="../media/image2.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utilityproject.org/" TargetMode="External"/><Relationship Id="rId2" Type="http://schemas.openxmlformats.org/officeDocument/2006/relationships/hyperlink" Target="https://www.facebook.com/UtilityProject"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7C21-B110-4ECB-9F4C-426C7DCE5E39}" type="slidenum">
              <a:rPr b="0" lang="en-US" sz="900" spc="-1" strike="noStrike">
                <a:solidFill>
                  <a:srgbClr val="898989"/>
                </a:solidFill>
                <a:latin typeface="Verdana"/>
              </a:rPr>
              <a:t>&lt;number&gt;</a:t>
            </a:fld>
            <a:endParaRPr b="0" lang="en-US" sz="900" spc="-1" strike="noStrike">
              <a:solidFill>
                <a:srgbClr val="000000"/>
              </a:solidFill>
              <a:latin typeface="Verdana"/>
            </a:endParaRPr>
          </a:p>
        </p:txBody>
      </p:sp>
      <p:sp>
        <p:nvSpPr>
          <p:cNvPr id="619" name="PlaceHolder 1"/>
          <p:cNvSpPr>
            <a:spLocks noGrp="1"/>
          </p:cNvSpPr>
          <p:nvPr>
            <p:ph type="title"/>
          </p:nvPr>
        </p:nvSpPr>
        <p:spPr>
          <a:xfrm>
            <a:off x="1771200" y="1771200"/>
            <a:ext cx="5543640" cy="13683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100" spc="-1" strike="noStrike">
                <a:solidFill>
                  <a:srgbClr val="000000"/>
                </a:solidFill>
                <a:latin typeface="Calibri Light"/>
              </a:rPr>
              <a:t>Bringing ESCOs a Step Closer to Real Regulation? -- The NYS PSC’s Feb. 23, 2016 “Reset Order”</a:t>
            </a:r>
            <a:endParaRPr b="0" lang="en-US" sz="4100" spc="-1" strike="noStrike">
              <a:solidFill>
                <a:srgbClr val="000000"/>
              </a:solidFill>
              <a:latin typeface="Calibri Light"/>
            </a:endParaRPr>
          </a:p>
        </p:txBody>
      </p:sp>
      <p:sp>
        <p:nvSpPr>
          <p:cNvPr id="620" name="PlaceHolder 2"/>
          <p:cNvSpPr>
            <a:spLocks noGrp="1"/>
          </p:cNvSpPr>
          <p:nvPr>
            <p:ph type="subTitle"/>
          </p:nvPr>
        </p:nvSpPr>
        <p:spPr>
          <a:xfrm>
            <a:off x="3943440" y="3438360"/>
            <a:ext cx="3828960" cy="328320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Richard Berkley, Esq.</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Executive Director</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Public Utility Law Project of NY, Inc.</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90 South Swan St., Suite 401</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Albany, NY   12210</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Phone:  917-512-5334</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   </a:t>
            </a:r>
            <a:r>
              <a:rPr b="1" lang="en-US" sz="1800" spc="-1" strike="noStrike">
                <a:solidFill>
                  <a:srgbClr val="000000"/>
                </a:solidFill>
                <a:latin typeface="Calibri"/>
              </a:rPr>
              <a:t>Toll Free: 877-669-2572</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Fax: 518-286-2392</a:t>
            </a:r>
            <a:endParaRPr b="0" lang="en-US" sz="1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563c1"/>
                </a:solidFill>
                <a:uFillTx/>
                <a:latin typeface="Calibri"/>
                <a:hlinkClick r:id="rId1"/>
              </a:rPr>
              <a:t>www.utilityproject.org</a:t>
            </a:r>
            <a:r>
              <a:rPr b="1" lang="en-US" sz="1800" spc="-1" strike="noStrike">
                <a:solidFill>
                  <a:srgbClr val="000000"/>
                </a:solidFill>
                <a:latin typeface="Calibri"/>
              </a:rPr>
              <a:t> </a:t>
            </a:r>
            <a:endParaRPr b="0" lang="en-US" sz="1800" spc="-1" strike="noStrike">
              <a:solidFill>
                <a:srgbClr val="000000"/>
              </a:solidFill>
              <a:latin typeface="Calibri"/>
            </a:endParaRPr>
          </a:p>
          <a:p>
            <a:pPr indent="0" algn="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June 6, 2016</a:t>
            </a:r>
            <a:endParaRPr b="0" lang="en-US" sz="1800" spc="-1" strike="noStrike">
              <a:solidFill>
                <a:srgbClr val="000000"/>
              </a:solidFill>
              <a:latin typeface="Calibri"/>
            </a:endParaRPr>
          </a:p>
        </p:txBody>
      </p:sp>
      <p:pic>
        <p:nvPicPr>
          <p:cNvPr id="621" name="Picture 4" descr=""/>
          <p:cNvPicPr/>
          <p:nvPr/>
        </p:nvPicPr>
        <p:blipFill>
          <a:blip r:embed="rId2"/>
          <a:stretch/>
        </p:blipFill>
        <p:spPr>
          <a:xfrm>
            <a:off x="2914560" y="4057560"/>
            <a:ext cx="1028880" cy="7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9C00-094A-49AB-A424-5AF944E9FF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d: Harm inflicted by ESCOs</a:t>
            </a:r>
            <a:endParaRPr b="0" lang="en-US" sz="3800" spc="-1" strike="noStrike">
              <a:solidFill>
                <a:srgbClr val="000000"/>
              </a:solidFill>
              <a:latin typeface="Verdana"/>
            </a:endParaRPr>
          </a:p>
        </p:txBody>
      </p:sp>
      <p:sp>
        <p:nvSpPr>
          <p:cNvPr id="649"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50" name="Picture 5" descr=""/>
          <p:cNvPicPr/>
          <p:nvPr/>
        </p:nvPicPr>
        <p:blipFill>
          <a:blip r:embed="rId1"/>
          <a:stretch/>
        </p:blipFill>
        <p:spPr>
          <a:xfrm>
            <a:off x="609480" y="1521000"/>
            <a:ext cx="8153640" cy="47242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5C2A-A35A-4663-ACF4-720734E21FB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d: Harm inflicted by ESCOs</a:t>
            </a:r>
            <a:endParaRPr b="0" lang="en-US" sz="3800" spc="-1" strike="noStrike">
              <a:solidFill>
                <a:srgbClr val="000000"/>
              </a:solidFill>
              <a:latin typeface="Verdana"/>
            </a:endParaRPr>
          </a:p>
        </p:txBody>
      </p:sp>
      <p:sp>
        <p:nvSpPr>
          <p:cNvPr id="653"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54" name="Picture 6" descr=""/>
          <p:cNvPicPr/>
          <p:nvPr/>
        </p:nvPicPr>
        <p:blipFill>
          <a:blip r:embed="rId1"/>
          <a:stretch/>
        </p:blipFill>
        <p:spPr>
          <a:xfrm>
            <a:off x="609480" y="1447920"/>
            <a:ext cx="8153640" cy="47973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026F-694C-4866-83B6-050FE8F7E1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d: Harm inflicted by ESCOs</a:t>
            </a:r>
            <a:endParaRPr b="0" lang="en-US" sz="3800" spc="-1" strike="noStrike">
              <a:solidFill>
                <a:srgbClr val="000000"/>
              </a:solidFill>
              <a:latin typeface="Verdana"/>
            </a:endParaRPr>
          </a:p>
        </p:txBody>
      </p:sp>
      <p:sp>
        <p:nvSpPr>
          <p:cNvPr id="657"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58" name="Picture 5" descr=""/>
          <p:cNvPicPr/>
          <p:nvPr/>
        </p:nvPicPr>
        <p:blipFill>
          <a:blip r:embed="rId1"/>
          <a:stretch/>
        </p:blipFill>
        <p:spPr>
          <a:xfrm>
            <a:off x="646200" y="1447920"/>
            <a:ext cx="8192880" cy="479736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C970-1972-429A-ADCD-A1A5AB1E70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d: Harm inflicted by ESCOs</a:t>
            </a:r>
            <a:endParaRPr b="0" lang="en-US" sz="3800" spc="-1" strike="noStrike">
              <a:solidFill>
                <a:srgbClr val="000000"/>
              </a:solidFill>
              <a:latin typeface="Verdana"/>
            </a:endParaRPr>
          </a:p>
        </p:txBody>
      </p:sp>
      <p:sp>
        <p:nvSpPr>
          <p:cNvPr id="661" name="PlaceHolder 2"/>
          <p:cNvSpPr>
            <a:spLocks noGrp="1"/>
          </p:cNvSpPr>
          <p:nvPr>
            <p:ph/>
          </p:nvPr>
        </p:nvSpPr>
        <p:spPr>
          <a:xfrm>
            <a:off x="609120" y="15238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current Nat’l Grid-LI rate case, PULP found that 99.8% of all ESCO customers were overcharged by a net amount of $1,709.140, and an average overcharge of $39 per custom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ingly, in the May 31, 2016 technical conference on 3 ESCO whitepapers, the DPS’ ESCO enforcement staff stated that ESCOs had overcharged customers approximately $195,000,000 to date in 2016 (PULP has no way of objectively verifying that number)</a:t>
            </a:r>
            <a:endParaRPr b="0" lang="en-US" sz="20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EFC1-6E76-45C2-8C7F-C8589092ED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LP’s 2015-2016 Strategy to Drive ESCO Regulatory Reform</a:t>
            </a:r>
            <a:endParaRPr b="0" lang="en-US" sz="3800" spc="-1" strike="noStrike">
              <a:solidFill>
                <a:srgbClr val="000000"/>
              </a:solidFill>
              <a:latin typeface="Verdana"/>
            </a:endParaRPr>
          </a:p>
        </p:txBody>
      </p:sp>
      <p:sp>
        <p:nvSpPr>
          <p:cNvPr id="664" name="PlaceHolder 2"/>
          <p:cNvSpPr>
            <a:spLocks noGrp="1"/>
          </p:cNvSpPr>
          <p:nvPr>
            <p:ph/>
          </p:nvPr>
        </p:nvSpPr>
        <p:spPr>
          <a:xfrm>
            <a:off x="609120" y="1752480"/>
            <a:ext cx="8001000" cy="4267440"/>
          </a:xfrm>
          <a:prstGeom prst="rect">
            <a:avLst/>
          </a:prstGeom>
          <a:noFill/>
          <a:ln w="0">
            <a:noFill/>
          </a:ln>
        </p:spPr>
        <p:txBody>
          <a:bodyPr anchor="t">
            <a:normAutofit fontScale="98000"/>
          </a:bodyPr>
          <a:p>
            <a:pPr marL="948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more than 15 years of fighting ESCOs, a new strategy seemed appropriate</a:t>
            </a:r>
            <a:endParaRPr b="0" lang="en-US" sz="2400" spc="-1" strike="noStrike">
              <a:solidFill>
                <a:srgbClr val="000000"/>
              </a:solidFill>
              <a:latin typeface="Verdana"/>
            </a:endParaRPr>
          </a:p>
          <a:p>
            <a:pPr marL="948960" indent="-50076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multiple simultaneous planes of action to increase pressure on the PSC, industry and Executive</a:t>
            </a:r>
            <a:endParaRPr b="0" lang="en-US" sz="2400" spc="-1" strike="noStrike">
              <a:solidFill>
                <a:srgbClr val="000000"/>
              </a:solidFill>
              <a:latin typeface="Verdana"/>
            </a:endParaRPr>
          </a:p>
          <a:p>
            <a:pPr marL="948960" indent="-50076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normal administrative advocacy but sharpen/harden positions</a:t>
            </a:r>
            <a:endParaRPr b="0" lang="en-US" sz="2400" spc="-1" strike="noStrike">
              <a:solidFill>
                <a:srgbClr val="000000"/>
              </a:solidFill>
              <a:latin typeface="Verdana"/>
            </a:endParaRPr>
          </a:p>
          <a:p>
            <a:pPr marL="948960" indent="-50076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 with 30% of NYC Council and 10% of State Legislature (including all key committee chairs); request help pressuring PSC and Gov on ESCO problem</a:t>
            </a:r>
            <a:endParaRPr b="0" lang="en-US" sz="24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F8E8-0FC8-45CC-B90D-0F8F0E9EAE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Continued: </a:t>
            </a:r>
            <a:r>
              <a:rPr b="0" lang="en-US" sz="3600" spc="-1" strike="noStrike">
                <a:solidFill>
                  <a:srgbClr val="000000"/>
                </a:solidFill>
                <a:latin typeface="Verdana"/>
              </a:rPr>
              <a:t>PULP’s 2015-2016 ESCO Strategy</a:t>
            </a:r>
            <a:endParaRPr b="0" lang="en-US" sz="3600" spc="-1" strike="noStrike">
              <a:solidFill>
                <a:srgbClr val="000000"/>
              </a:solidFill>
              <a:latin typeface="Verdana"/>
            </a:endParaRPr>
          </a:p>
        </p:txBody>
      </p:sp>
      <p:sp>
        <p:nvSpPr>
          <p:cNvPr id="667" name="PlaceHolder 2"/>
          <p:cNvSpPr>
            <a:spLocks noGrp="1"/>
          </p:cNvSpPr>
          <p:nvPr>
            <p:ph/>
          </p:nvPr>
        </p:nvSpPr>
        <p:spPr>
          <a:xfrm>
            <a:off x="609120" y="1752480"/>
            <a:ext cx="8001000" cy="4267440"/>
          </a:xfrm>
          <a:prstGeom prst="rect">
            <a:avLst/>
          </a:prstGeom>
          <a:noFill/>
          <a:ln w="0">
            <a:noFill/>
          </a:ln>
        </p:spPr>
        <p:txBody>
          <a:bodyPr anchor="t">
            <a:normAutofit/>
          </a:bodyPr>
          <a:p>
            <a:pPr marL="968400" indent="-511200">
              <a:lnSpc>
                <a:spcPct val="90000"/>
              </a:lnSpc>
              <a:spcBef>
                <a:spcPts val="7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ganize key consumer protection organizations to file jointly in proceedings and use same talk points with press</a:t>
            </a:r>
            <a:endParaRPr b="0" lang="en-US" sz="3000" spc="-1" strike="noStrike">
              <a:solidFill>
                <a:srgbClr val="000000"/>
              </a:solidFill>
              <a:latin typeface="Verdana"/>
            </a:endParaRPr>
          </a:p>
          <a:p>
            <a:pPr marL="968400" indent="-511200">
              <a:lnSpc>
                <a:spcPct val="90000"/>
              </a:lnSpc>
              <a:spcBef>
                <a:spcPts val="7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centrate on partnering with media to write powerfully about ESCO predations, PSC “collaboration” with ESCOs, etc.</a:t>
            </a:r>
            <a:endParaRPr b="0" lang="en-US" sz="3000" spc="-1" strike="noStrike">
              <a:solidFill>
                <a:srgbClr val="000000"/>
              </a:solidFill>
              <a:latin typeface="Verdana"/>
            </a:endParaRPr>
          </a:p>
          <a:p>
            <a:pPr marL="9684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2BB7-03E0-41D9-9D78-19069617B7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9" name="PlaceHolder 1"/>
          <p:cNvSpPr>
            <a:spLocks noGrp="1"/>
          </p:cNvSpPr>
          <p:nvPr>
            <p:ph type="title"/>
          </p:nvPr>
        </p:nvSpPr>
        <p:spPr>
          <a:xfrm>
            <a:off x="624960" y="2728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dia Response to PULP’s Strategy</a:t>
            </a:r>
            <a:endParaRPr b="0" lang="en-US" sz="3400" spc="-1" strike="noStrike">
              <a:solidFill>
                <a:srgbClr val="000000"/>
              </a:solidFill>
              <a:latin typeface="Verdana"/>
            </a:endParaRPr>
          </a:p>
        </p:txBody>
      </p:sp>
      <p:sp>
        <p:nvSpPr>
          <p:cNvPr id="670" name="PlaceHolder 2"/>
          <p:cNvSpPr>
            <a:spLocks noGrp="1"/>
          </p:cNvSpPr>
          <p:nvPr>
            <p:ph/>
          </p:nvPr>
        </p:nvSpPr>
        <p:spPr>
          <a:xfrm>
            <a:off x="609120" y="2209680"/>
            <a:ext cx="8001000" cy="411480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llage Voice: Why Is Albany Letting These Energy Companies Scam Thousands of New Yorker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llage Voice: After Voice Investigation, Major Reforms Announced in Retail Energy Industry</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bany Times Union: Energy sales company say Cuomo swayed by Village Voice expose - Court filing cites expose by alternative weekly in agency act</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egislative Response to PULP’s Strategy</a:t>
            </a:r>
            <a:endParaRPr b="0" lang="en-US" sz="3800" spc="-1" strike="noStrike">
              <a:solidFill>
                <a:srgbClr val="000000"/>
              </a:solidFill>
              <a:latin typeface="Verdana"/>
            </a:endParaRPr>
          </a:p>
        </p:txBody>
      </p:sp>
      <p:sp>
        <p:nvSpPr>
          <p:cNvPr id="672"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9032/S.6798 - The purpose of this bill is to protect consumers from unknown price increases to their energy bill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wo other important bills -  A9593 would repeal ESCOs’ sales tax exemption on the delivery of electricity and natural gas. A9652 would add language to the current state statutes in order to limit the sale of electricity or natural gas by ESCOs to non-residential customers only.</a:t>
            </a:r>
            <a:endParaRPr b="0" lang="en-US" sz="2600" spc="-1" strike="noStrike">
              <a:solidFill>
                <a:srgbClr val="000000"/>
              </a:solidFill>
              <a:latin typeface="Verdana"/>
            </a:endParaRPr>
          </a:p>
        </p:txBody>
      </p:sp>
      <p:sp>
        <p:nvSpPr>
          <p:cNvPr id="67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4233-F8B7-42E7-B5A9-A9E3728DD4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540B-3B0F-4D1D-8B9A-44E8DFC71AC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So, Where is the Reset Order Now?</a:t>
            </a:r>
            <a:endParaRPr b="0" lang="en-US" sz="3800" spc="-1" strike="noStrike">
              <a:solidFill>
                <a:srgbClr val="000000"/>
              </a:solidFill>
              <a:latin typeface="Verdana"/>
            </a:endParaRPr>
          </a:p>
        </p:txBody>
      </p:sp>
      <p:sp>
        <p:nvSpPr>
          <p:cNvPr id="67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SCOs immediately sued and got a TRO restraining enforcement of three important Ordering paragraph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agraph 1 restricts ESCOs to offering either a price guaranteed to match or beat the utility price or offer 30% renewable produc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1C3-B127-4A3C-B14A-88EEF14D0BF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inued: So, Where is the Reset Order Now?</a:t>
            </a: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agraph 2 requires ESCOs to receive affirmative consent from a mass market customer prior to renewing that customer from a fixed rate or guaranteed savings contract into a new contrac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agraph 3 requires the CEO or equivalent to certify compliance with the Order (“baby Sarbanes-Oxley”)</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F2FD-4FD7-4328-B269-C07FB48DD2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ublic Utility Law Project of NY, Inc.</a:t>
            </a:r>
            <a:endParaRPr b="0" lang="en-US" sz="3000" spc="-1" strike="noStrike">
              <a:solidFill>
                <a:srgbClr val="000000"/>
              </a:solidFill>
              <a:latin typeface="Verdana"/>
            </a:endParaRPr>
          </a:p>
        </p:txBody>
      </p:sp>
      <p:sp>
        <p:nvSpPr>
          <p:cNvPr id="624"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Verdana"/>
                <a:hlinkClick r:id="rId1"/>
              </a:rPr>
              <a:t>www.utilityproject.org</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Verdana"/>
                <a:hlinkClick r:id="rId2"/>
              </a:rPr>
              <a:t>www.facebook.com/UtilityProject</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itter.com/UtilityProject</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nfo@utilityproject.org</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877) 669-2572 – Toll Fre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l: 90 S. Swan St. – Suite 401 Albany, New York 12210</a:t>
            </a:r>
            <a:endParaRPr b="0" lang="en-US" sz="28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3ADB-B01D-4485-A9F2-8DC45D1F41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inued: So, Where is the Reset Order Now?</a:t>
            </a:r>
            <a:endParaRPr b="0" lang="en-US" sz="3800" spc="-1" strike="noStrike">
              <a:solidFill>
                <a:srgbClr val="000000"/>
              </a:solidFill>
              <a:latin typeface="Verdana"/>
            </a:endParaRPr>
          </a:p>
        </p:txBody>
      </p:sp>
      <p:sp>
        <p:nvSpPr>
          <p:cNvPr id="68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SC and ESCOs (and NYS-AG and AARP as amici) are still in cour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ies &amp; stakeholders are undergoing process on 3 separate rulemakings arising from the TRO’s halt of the Ordering paragraph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LP is working with the media to keep the pressure on, filing Comments on June 6, in coordination with the NYS-AG and DOS-UIU, and keeping the Legislators involved</a:t>
            </a:r>
            <a:r>
              <a:rPr b="0" lang="is-I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LP’s Upcoming Issues</a:t>
            </a:r>
            <a:endParaRPr b="0" lang="en-US" sz="3800" spc="-1" strike="noStrike">
              <a:solidFill>
                <a:srgbClr val="000000"/>
              </a:solidFill>
              <a:latin typeface="Verdana"/>
            </a:endParaRPr>
          </a:p>
        </p:txBody>
      </p:sp>
      <p:sp>
        <p:nvSpPr>
          <p:cNvPr id="684" name=""/>
          <p:cNvSpPr txBox="1"/>
          <p:nvPr/>
        </p:nvSpPr>
        <p:spPr>
          <a:xfrm>
            <a:off x="566280" y="1752480"/>
            <a:ext cx="8001000" cy="464832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ESCO bad behavior?</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V”, CES, ZECs and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 Edison’s “Kangaroo Court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YC Marshals, Meter Replevins &amp; HEFPA Violations? (the 3</a:t>
            </a:r>
            <a:r>
              <a:rPr b="0" lang="en-US" sz="2800" spc="-1" strike="noStrike" baseline="30000">
                <a:solidFill>
                  <a:srgbClr val="000000"/>
                </a:solidFill>
                <a:latin typeface="Verdana"/>
              </a:rPr>
              <a:t>rd</a:t>
            </a:r>
            <a:r>
              <a:rPr b="0" lang="en-US" sz="2800" spc="-1" strike="noStrike">
                <a:solidFill>
                  <a:srgbClr val="000000"/>
                </a:solidFill>
                <a:latin typeface="Verdana"/>
              </a:rPr>
              <a:t> leg of the stool driving low-income arrears higher?)</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wide investigations of DPAs and Utility Treatment of Serious Medical Conditions violating HEFPA?</a:t>
            </a:r>
            <a:endParaRPr b="0" lang="en-US" sz="2800" spc="-1" strike="noStrike">
              <a:solidFill>
                <a:srgbClr val="000000"/>
              </a:solidFill>
              <a:latin typeface="Verdana"/>
            </a:endParaRPr>
          </a:p>
        </p:txBody>
      </p:sp>
      <p:sp>
        <p:nvSpPr>
          <p:cNvPr id="685"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6408-796A-4550-8E02-872D5A8CBF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1E35-AC5B-4FDE-AACF-5A60427E5BA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ublic Utility Law Project of NY, Inc.</a:t>
            </a:r>
            <a:endParaRPr b="0" lang="en-US" sz="3000" spc="-1" strike="noStrike">
              <a:solidFill>
                <a:srgbClr val="000000"/>
              </a:solidFill>
              <a:latin typeface="Verdana"/>
            </a:endParaRPr>
          </a:p>
        </p:txBody>
      </p:sp>
      <p:sp>
        <p:nvSpPr>
          <p:cNvPr id="68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act Richard Berkley at (917) 512-5334</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ail to: rberkley@utilityproject.org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ll Free: (877) 669-2572</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l: 90 S. Swan St. – Suite 401, Albany, New York 12210</a:t>
            </a:r>
            <a:endParaRPr b="0" lang="en-US" sz="30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04D6-C6E9-4F10-AFFF-BDFB8F279C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 Will Talk About. . .</a:t>
            </a:r>
            <a:endParaRPr b="0" lang="en-US" sz="3800" spc="-1" strike="noStrike">
              <a:solidFill>
                <a:srgbClr val="000000"/>
              </a:solidFill>
              <a:latin typeface="Verdana"/>
            </a:endParaRPr>
          </a:p>
        </p:txBody>
      </p:sp>
      <p:sp>
        <p:nvSpPr>
          <p:cNvPr id="6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nergy Service Company (ESCO) marketplace before the Feb. 23 Reset Order</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ulation? Or the lack thereof?</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rm inflicted upon NY “retail choice” consumers, &amp; particularly upon low-income households and other targets of predation</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P’s strategy to drive chang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SCNY’s ORDER RESETTING RETAIL ENERGY MARKETS AND ESTABLISHING FURTHER PROCESS (Issued and Effective February 23, 2016) [the ”Reset Order”]</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Y’s Retail Energy Market is Not Workably Competitiv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629"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excess of 200 ESCOs apparently doing business in NYS, or maybe not?</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st majority of ESCOs serving ”mass market” (i.e. residential and small comm’l) customers provide commodity-only servi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ence shows that, for mass market customers, ESCOs cannot effectively compete with commodity prices offered by utilities</a:t>
            </a:r>
            <a:endParaRPr b="0" lang="en-US" sz="2800" spc="-1" strike="noStrike">
              <a:solidFill>
                <a:srgbClr val="000000"/>
              </a:solidFill>
              <a:latin typeface="Verdana"/>
            </a:endParaRPr>
          </a:p>
        </p:txBody>
      </p:sp>
      <p:sp>
        <p:nvSpPr>
          <p:cNvPr id="63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49D1-DEF1-4B67-BA8B-83F432BA60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632"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NYS PSC’s Conclusion in its Feb. 25, 2014 Order (“Partial Reform Order”): ”[R]etail energy markets are not providing sufficient competition or innovation to properly serve mass market consumer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so, “Staff reviewed ESCO eligibility requirements in other states with restructured energy markets and found that several states have more stringent eligibility criteria for ESCOs than New York.”</a:t>
            </a:r>
            <a:endParaRPr b="0" lang="en-US" sz="2600" spc="-1" strike="noStrike">
              <a:solidFill>
                <a:srgbClr val="000000"/>
              </a:solidFill>
              <a:latin typeface="Verdana"/>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3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0F1D-1D0C-4D31-ADB7-472F0847F3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paucity of regulation</a:t>
            </a:r>
            <a:endParaRPr b="0" lang="en-US" sz="3800" spc="-1" strike="noStrike">
              <a:solidFill>
                <a:srgbClr val="000000"/>
              </a:solidFill>
              <a:latin typeface="Verdana"/>
            </a:endParaRPr>
          </a:p>
        </p:txBody>
      </p:sp>
      <p:sp>
        <p:nvSpPr>
          <p:cNvPr id="635" name=""/>
          <p:cNvSpPr txBox="1"/>
          <p:nvPr/>
        </p:nvSpPr>
        <p:spPr>
          <a:xfrm>
            <a:off x="566280" y="1752480"/>
            <a:ext cx="8001000" cy="4267440"/>
          </a:xfrm>
          <a:prstGeom prst="rect">
            <a:avLst/>
          </a:prstGeom>
          <a:noFill/>
          <a:ln w="0">
            <a:noFill/>
          </a:ln>
        </p:spPr>
        <p:txBody>
          <a:bodyPr anchor="t">
            <a:normAutofit fontScale="94000"/>
          </a:bodyPr>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t 1 of the PSL (general jurisdiction over sale of electric and gas)</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t 2 of the PSL (HEFPA; only tangentially effects ESCOs)</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inion 97-5 creating minimal eligibility requirements</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v. 2003 Order requiring ESCOs to adhere to UBPs and utilities to adopt UBPs into tariffs; no enforcement</a:t>
            </a:r>
            <a:endParaRPr b="0" lang="en-US" sz="3000" spc="-1" strike="noStrike">
              <a:solidFill>
                <a:srgbClr val="000000"/>
              </a:solidFill>
              <a:latin typeface="Verdana"/>
            </a:endParaRPr>
          </a:p>
        </p:txBody>
      </p:sp>
      <p:sp>
        <p:nvSpPr>
          <p:cNvPr id="63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DC98-C612-4DD9-86AC-EBCCCFEAE75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05DC-02EB-4297-A10D-848B2B89E2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38" name="PlaceHolder 1"/>
          <p:cNvSpPr>
            <a:spLocks noGrp="1"/>
          </p:cNvSpPr>
          <p:nvPr>
            <p:ph type="title"/>
          </p:nvPr>
        </p:nvSpPr>
        <p:spPr>
          <a:xfrm>
            <a:off x="533160" y="282240"/>
            <a:ext cx="8001000" cy="1546200"/>
          </a:xfrm>
          <a:prstGeom prst="rect">
            <a:avLst/>
          </a:prstGeom>
          <a:noFill/>
          <a:ln w="0">
            <a:noFill/>
          </a:ln>
        </p:spPr>
        <p:txBody>
          <a:bodyPr anchor="b">
            <a:no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SCNY’s Conclusion in the Reset Order (see, p. 10)</a:t>
            </a:r>
            <a:br>
              <a:rPr sz="3000"/>
            </a:br>
            <a:endParaRPr b="0" lang="en-US" sz="3000" spc="-1" strike="noStrike">
              <a:solidFill>
                <a:srgbClr val="000000"/>
              </a:solidFill>
              <a:latin typeface="Verdana"/>
            </a:endParaRPr>
          </a:p>
        </p:txBody>
      </p:sp>
      <p:sp>
        <p:nvSpPr>
          <p:cNvPr id="639" name="PlaceHolder 2"/>
          <p:cNvSpPr>
            <a:spLocks noGrp="1"/>
          </p:cNvSpPr>
          <p:nvPr>
            <p:ph/>
          </p:nvPr>
        </p:nvSpPr>
        <p:spPr>
          <a:xfrm>
            <a:off x="609120" y="1523520"/>
            <a:ext cx="8001000" cy="4419720"/>
          </a:xfrm>
          <a:prstGeom prst="rect">
            <a:avLst/>
          </a:prstGeom>
          <a:noFill/>
          <a:ln w="0">
            <a:noFill/>
          </a:ln>
        </p:spPr>
        <p:txBody>
          <a:bodyPr anchor="t">
            <a:normAutofit fontScale="99000"/>
          </a:bodyPr>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upon the Reset Order record in the underlying proceedings, the Commission finds that additional restructuring is necessary to further protect consumers from </a:t>
            </a:r>
            <a:r>
              <a:rPr b="0" lang="en-US" sz="2600" spc="-1" strike="noStrike" u="sng">
                <a:solidFill>
                  <a:srgbClr val="000000"/>
                </a:solidFill>
                <a:uFillTx/>
                <a:latin typeface="Verdana"/>
              </a:rPr>
              <a:t>high-pressure sales situations, deceptive marketing, slamming, and lack of expected savings</a:t>
            </a:r>
            <a:r>
              <a:rPr b="0" lang="en-US" sz="2600" spc="-1" strike="noStrike">
                <a:solidFill>
                  <a:srgbClr val="000000"/>
                </a:solidFill>
                <a:latin typeface="Verdana"/>
              </a:rPr>
              <a:t>. </a:t>
            </a:r>
            <a:r>
              <a:rPr b="0" i="1" lang="en-US" sz="2600" spc="-1" strike="noStrike">
                <a:solidFill>
                  <a:srgbClr val="000000"/>
                </a:solidFill>
                <a:latin typeface="Verdana"/>
              </a:rPr>
              <a:t>Comments received by parties demonstrate a public desire and need to further strengthen regulatory oversight to enhance consumer protections. </a:t>
            </a:r>
            <a:endParaRPr b="0" lang="en-US" sz="2600" spc="-1" strike="noStrike">
              <a:solidFill>
                <a:srgbClr val="000000"/>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627B-104C-474C-9E99-615AC1FB492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The Harms Visited Upon the Utility Consuming Public</a:t>
            </a:r>
            <a:endParaRPr b="0" lang="en-US" sz="3600" spc="-1" strike="noStrike">
              <a:solidFill>
                <a:srgbClr val="000000"/>
              </a:solidFill>
              <a:latin typeface="Verdana"/>
            </a:endParaRPr>
          </a:p>
        </p:txBody>
      </p:sp>
      <p:sp>
        <p:nvSpPr>
          <p:cNvPr id="642" name="PlaceHolder 2"/>
          <p:cNvSpPr>
            <a:spLocks noGrp="1"/>
          </p:cNvSpPr>
          <p:nvPr>
            <p:ph/>
          </p:nvPr>
        </p:nvSpPr>
        <p:spPr>
          <a:xfrm>
            <a:off x="609120" y="1523880"/>
            <a:ext cx="8001000" cy="4572000"/>
          </a:xfrm>
          <a:prstGeom prst="rect">
            <a:avLst/>
          </a:prstGeom>
          <a:noFill/>
          <a:ln w="0">
            <a:noFill/>
          </a:ln>
        </p:spPr>
        <p:txBody>
          <a:bodyPr anchor="t">
            <a:normAutofit fontScale="99000"/>
          </a:bodyPr>
          <a:p>
            <a:pPr marL="46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46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tween 2012 and 2014, there were 3,360 complaints vs ESCOs in NYC alone; fraud was 21.5%, overcharging was 44%, with slamming, excessive termination fees and inability to switch back representing roughly 46%</a:t>
            </a:r>
            <a:endParaRPr b="0" lang="en-US" sz="2000" spc="-1" strike="noStrike">
              <a:solidFill>
                <a:srgbClr val="000000"/>
              </a:solidFill>
              <a:latin typeface="Verdana"/>
            </a:endParaRPr>
          </a:p>
          <a:p>
            <a:pPr marL="464760" indent="-46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2015, the total number of initial complaints received by the DPS vs ESCOs statewide was 5,044. </a:t>
            </a:r>
            <a:endParaRPr b="0" lang="en-US" sz="2000" spc="-1" strike="noStrike">
              <a:solidFill>
                <a:srgbClr val="000000"/>
              </a:solidFill>
              <a:latin typeface="Verdana"/>
            </a:endParaRPr>
          </a:p>
          <a:p>
            <a:pPr marL="464760" indent="-46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2012, PULP found that consumers in Nat’l Grid’s Upstate service area were overcharged an average of $20 per month in excess of the utility’s rate</a:t>
            </a:r>
            <a:endParaRPr b="0" lang="en-US" sz="2000" spc="-1" strike="noStrike">
              <a:solidFill>
                <a:srgbClr val="000000"/>
              </a:solidFill>
              <a:latin typeface="Verdana"/>
            </a:endParaRPr>
          </a:p>
          <a:p>
            <a:pPr marL="464760" indent="-464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current Nat’l Grid-NY rate case PULP found that 99.7% of all ESCO customers were overcharged by a net amount of $3,406,266. 99.8% of Low- and Fixed-Income customers were overcharged in that period. </a:t>
            </a:r>
            <a:endParaRPr b="0" lang="en-US" sz="20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4B02-DF5A-4580-B19C-BBB258BF13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Verdana"/>
              </a:rPr>
              <a:t>Cont’d: Harm inflicted by ESCOs</a:t>
            </a:r>
            <a:endParaRPr b="0" lang="en-US" sz="3800" spc="-1" strike="noStrike">
              <a:solidFill>
                <a:srgbClr val="000000"/>
              </a:solidFill>
              <a:latin typeface="Verdana"/>
            </a:endParaRPr>
          </a:p>
        </p:txBody>
      </p:sp>
      <p:sp>
        <p:nvSpPr>
          <p:cNvPr id="645"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646" name="Picture 4" descr=""/>
          <p:cNvPicPr/>
          <p:nvPr/>
        </p:nvPicPr>
        <p:blipFill>
          <a:blip r:embed="rId1"/>
          <a:stretch/>
        </p:blipFill>
        <p:spPr>
          <a:xfrm>
            <a:off x="609480" y="1521000"/>
            <a:ext cx="8001000" cy="465120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8:16:30Z</dcterms:created>
  <dc:creator>Richard Berkley</dc:creator>
  <dc:description/>
  <dc:language>en-US</dc:language>
  <cp:lastModifiedBy>Richard Berkley</cp:lastModifiedBy>
  <dcterms:modified xsi:type="dcterms:W3CDTF">2016-06-06T14:54:53Z</dcterms:modified>
  <cp:revision>53</cp:revision>
  <dc:subject/>
  <dc:title>Public Utility Law Project of New York, Inc.</dc:title>
</cp:coreProperties>
</file>